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F7D-722D-48BE-A209-32979069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287-5A10-4E1D-AA5A-6D00AA07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3C566-DA01-4434-8600-3818268B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A573F-182D-4562-BAE1-04DE4864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6F9A3-3A18-4E19-A056-E873BDF1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3E9C6-CC3A-47AF-8714-BBEA1FE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54D38-2E8C-4319-92CE-D0C0494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BC1B3-4ACB-41B7-AD67-8631EBE8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63269-91AC-4208-8F33-65DC7E6E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4E506-911E-4384-8D40-CB15063F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C85C5-B4A4-4E17-BEA5-C6CF8420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CFE3A-F7FF-49F2-9052-C3BA7D48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43E-070F-4080-BC76-521FC35C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482AE-97B7-4679-B347-1CAEE6D7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FA15B-6976-4C79-9055-AC3DC75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634FE-5F67-404F-A449-286B4C4F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6200A-DC04-43AC-A8DD-4267620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313E2-B835-45E0-BFC2-C397B761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0D757-C94C-43EE-B9CE-5DF2101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ACA8B-5F6B-4DC6-ADE7-CA91793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09701-8395-4654-B3AE-57D6081C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458CD-9B99-4848-AD09-C8214978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924D9-2145-4EAC-9056-4AC60BA6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707-FC67-4F60-A797-4139FE4D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9781D-33E0-425B-A0CA-1B4082FA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07227-ACE7-4ABD-BCC0-83CE79CC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66C4D-C0A9-4F74-9B68-1DEE47A9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0D718-A405-4420-B30F-DEDA3ED4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BBCE1-FB89-40DC-9FF4-50AFA69D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401C9-A13E-4746-8E9D-8FFF31C5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EF1C4-D0A9-4615-81A3-0E16C4AF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1E053-7AA5-4CC9-98F4-D3C92F28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F0ADC-A0BF-4E05-AEB2-1F635BC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35D86-496B-44E4-A1D8-17B1253D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7EDC-6B38-4F0A-8FBB-155497F4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AF570-2354-4C3C-8AA0-9F72D265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623E5-C070-4F06-B307-B6F88C7B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98442-5B57-4F37-AF38-84EB4F05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C6727-1721-4067-A2C3-63F109A5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72343-45AD-4FB0-9B4F-A192A9F9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1DC09-DC6A-4774-B2F0-A46D9624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6D118-AFA6-477D-918A-3978A275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1F9B9-04B0-457C-80F0-7182C686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2596C-FAF3-4CBF-835E-03D5F869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AB241-D00B-4CA7-8D6D-580E5A64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00C4-7DF9-40FE-9F1A-F15F12BA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F2177-E1E6-4243-BA03-3F20DDD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FC776-C573-4B9A-92DF-A2020C28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5FD67-A426-449D-83C9-4FB80519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E39A4-519B-42FC-946B-BE2C37F4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9F926-B056-4231-9401-2960A432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56A66-60FF-40B4-BECE-CD80EFC5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5B6BC-6930-47C8-B169-6ED5536A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1AB55-88F1-40AE-A197-6F6FDBF6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54B12-2899-4211-A314-1C74DBF5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0A6A5-FCAC-4691-82FD-C059FDE6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87AE-6E26-4F56-B68C-9C295E3F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8A5A8-5CB6-494F-9E76-C847427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01FB3-7744-47A9-89EA-8DF92D0E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63E4E-0D43-42B6-B0E9-5F307EC4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9075D-3CF2-4375-B1E8-7432C93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AC07D-1423-4453-B7D4-D6B25A80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B988E-2791-47A9-BC01-1BE4827D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F753B-70D2-434A-9D30-DF47723B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F13AB9-DAE0-4BB3-AF2D-4BA71F18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36963-4085-4081-A197-281BD4AF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E96FB-994D-4307-B5F9-3571C249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99F6-19FB-40F8-A360-4AB048AA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4E31E-3FD3-4559-9E13-B13D02E6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ADF29-872B-44AA-9880-72B98E8E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0CB1E-92F4-49EF-91E1-AE8E9A1E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1A127-5154-471E-B448-7070F5FD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A4A38-0F3F-4824-91A8-D5A719B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BEAD5-C0A2-4319-85CC-6BFC8AE3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7DA29-49BE-40AE-9FE0-5B54A579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563EC-538A-4A79-9103-E7A76B1B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D7326-14A7-41C1-9B6A-29750E8C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97CCD-2F9D-4BE6-86D3-002ABBFC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8546-68BF-47E9-B53F-FDC9D9D8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5BDDD-3CE0-4778-B750-2677F5FB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08C5D-AEAA-48AE-B53B-6B1D3012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82426-04C5-4E29-82F9-73B18B27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AAF4A-8E03-4F11-9012-D43F9B73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79A05-EA92-453D-9C77-2DA67F77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D1C00-A0FD-4740-87D2-2B4CE488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6597E-5B14-4EF5-84A2-E195A394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F0648-82BC-4D7B-9D14-EDEB4043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05C9F-FC88-455E-902D-83F2E13E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2E0AB-476E-4F33-8276-11DA4B01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82C8-04C4-4AD3-941F-FA8E2F1A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0417F-0C4D-4248-A636-2E792788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DFF541-38D8-4514-B15A-06156926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5E327-FF70-4CDD-9B37-5D0F4E59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BBA27-1863-425E-80DC-26A8A6F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F4326-DE5D-4998-A11C-B243C13C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725BA-5A9A-4D02-843B-4C41BCC7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5982E-53A4-437E-92D8-F179F89C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247925-EBED-4CDA-AEEB-10D13737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FD2FD-3FAD-439F-B4B7-27CAE6E5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BAF07-8ED7-4A7E-A117-7BCA3954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BB91-7706-4A55-80C2-45B1756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D4E39-AD55-49D1-B031-DC57EFAC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9ED1E-B3BD-4207-A6B1-B34183CE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2B454-9FC6-421D-85AE-A21E26B6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C9897-7719-4F22-B4E2-539D85FF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664D4-79DF-46DF-B596-3F59AAD9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84AFD-A4F9-401B-85DA-BE5BA01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75132-F4C0-47ED-9792-6B896D84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EE8D7-D491-4095-B783-66739A18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47C22-2B3E-4504-BFF6-C289DFD0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49AD3-E4B1-42BA-BF79-616F6E4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3E9-E613-4E82-AF31-E212AB6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BEA4-14B4-46CF-B443-718882F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B4A61-A2F0-4AC0-9061-7815E9C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5D7BF-670F-4F94-B1AA-C9CC253A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657A96-0A29-4CD0-B8F2-8F8E71AC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C8485-DE49-4F7A-9A80-DC1D00B3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A7E0A-0B8A-43FC-8418-FF5983BD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41479-97AD-45E6-B477-950BB93A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BE89B-F1B0-4D80-8F23-2745C2BA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F190F-983C-4189-AE97-BAC54985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C855C-46F6-464D-8201-5A1D0AD3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1131E-2AA4-4E47-8789-DD846ADC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B5E1-8083-4B0A-A037-366353E5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6A5DC3-291B-4C69-AAB1-61F115F5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77A56F-18FC-473F-9734-973DF4DF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24556-C8B8-4D1A-8DA1-7029CD8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51497-ED32-4B7F-A21A-E560BF84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AAC26-E2D2-44F8-8D44-3F8484C6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769767-25C4-4EE3-A301-E6482ED7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97828-BE2F-4B98-8159-4E555B4B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F9514-DDDF-4AFF-BC44-09F83747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F0B70-99BF-47F9-9A2A-89A1EEC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ED2B4-DF2C-4C92-A152-7FD53CFD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C37C-4CD5-4C0C-BD22-892C55AA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E5EF10-2846-49D9-9966-EEE7E9F6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280E8-0624-4987-ACF5-F1808C85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7483F-0C27-45E2-B623-A6A8BAB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C9343-E8EE-4E68-BA9C-D5ABF039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5C62F-2FF7-4A3C-8682-56274EF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0613C3-DAA6-4D35-8B23-572ED7EF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C7AF5-320B-4F5A-83ED-0283EA81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5A037-E206-45D7-9C78-9530C95E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5A1437-3D42-438C-9A41-CB0286CE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1D31A-C0BE-4034-BF56-4880F4F3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CD7B-AE7C-486A-875C-8D144E8C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7A72B-25E4-4503-AE4C-1B0CDE88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048C1-7552-401F-A466-A627D53A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BA6824-2799-4270-93D5-4F57C706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BB942-6456-44D0-80D5-6EB7EE24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AD3B6-14A9-49D6-9E1F-73E99E2D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1E291-C5F1-40AB-940A-C850A8C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12782-09A3-49AA-80D8-9EC85BE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0E2DB-269B-47C8-8966-41C7C4A9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BF411-DA75-4B46-BCF8-1F0E6101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03173-2C26-4047-A19D-7F26E896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045C-DC03-40CD-8CAE-FB8CB23F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2BE25-67B9-447F-8745-E5C8EC52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20B8D-F0C9-41F6-BA36-FAC2918D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312300-9C3F-4931-BA66-39511C25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26308-B2C4-490B-BCB9-BA4A44A0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A0957-01B8-4DDC-A31C-971CCA27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75525-01BF-4590-9377-9C5831B2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4824E-E402-452D-841F-5AD49B26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3DFC88-16E0-49A3-843E-3C06F45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6A737-F55F-46A0-999A-C212BFF4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10B19-01AE-468B-A3E7-CF0AD9E1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65FE-29C7-49F6-908C-6C5D0338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9485DB-25BE-417E-A1EA-24AFF61A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983CB4-DE19-4569-B2F9-2FEC5C04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61EBE-3602-459A-A2E8-1B22CBC0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9125-FCCC-4BB2-9F97-A825841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1948-7279-4C86-920A-DCC34B47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48F1-CDD6-4D4B-B313-08BCAF1F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88E5-9462-4747-AC20-31B9CA12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E6A-9769-4B9A-84E4-D5383823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A21E-2241-494C-937E-C2C1D61E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D081-77A3-490C-8302-597EC78F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A409-30A3-4E04-B89F-D9DD212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4856-FDF9-4C69-AC12-6011F830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FA12-7630-4E3D-8DE2-6135C189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C45C-792E-4C15-AA6F-D68818BD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D6C7-021A-41A3-AE5B-26D83C6F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682C-F62B-4EF1-9184-29143608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61CB-0089-4B13-B07C-43189C2D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A4D9-F151-43D3-9730-42BFE31E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DAD-C30B-47A9-8F69-B0ECA42C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51F7-CB8B-4775-9B72-759EA1B8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D50D1-646F-4F0A-9952-F2D68043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256B-8426-44C7-87C0-18C0CC96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2BBD-0AEC-44BF-9A04-1377A41C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3F7F-6935-47C4-9F89-CF30C40B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75C8-07A5-4A3A-9811-E748779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ACAF-05DF-400A-9B90-AECEC61A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D3907-C898-48E0-9C8C-AD0A4495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AD658-9373-407C-B1FE-D9B75455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9F8AB-A996-47A5-9108-4E30B0A7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479-C731-4644-9600-0003265D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CA3B1-C659-4811-B095-923D5A23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98CFC-A02B-43FA-9582-97570D4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8F5C3-52C4-4D07-9E8E-9A72ABE0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693CB-CC2A-4E3F-8D16-F0506D5F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96FD6-1C62-4794-A1C2-01053255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8722F-5A02-4283-8FCA-938A954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6C411-CEF2-466F-A063-DCA2C4CD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463D1-3CEA-4829-B779-A18263DB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7AFBA-AC6D-4102-BEDD-58BE9422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02B90-225F-4A86-AF9D-6FFED041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56C-EED0-492F-BA1F-BCF6EE90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7238F-404B-413D-AA4E-C11FC5CD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47363-10C2-4805-9ED4-937F1D7D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22DAA-92D9-41E9-8D62-D79371F1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14DBE-C83B-4EC8-8A6B-03DC4461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36E0D-FF09-4A07-98DC-36A5A022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35320-26AE-4F40-9817-0A89B7EB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876E3-D1F8-4BE6-B5C1-86199F20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A008-63B8-46BF-896B-84025F6C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CF015-B8C9-42CC-BB6D-110ACEE4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559BA-B85D-4341-853B-56A4644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AF3-ECAA-4419-8BE7-30454345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535D-4F66-43E9-B541-9AC21CCE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BC77-36B4-4236-B3BB-F0551739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0239-499A-4E55-AE25-D386A12C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36186-C7A9-450C-85FE-039C6B09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29A8C-A5CD-4EE0-8793-8BD11157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1AFDB-919C-4F84-A644-21A71792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DC96A-B5A1-4941-BDD3-E7B333B1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70FE6-B88A-44B6-8D79-402E6AB2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56A2A-FF5F-4146-9E42-2B970A3C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7FDB9-0A36-4D4C-B9D6-E97A753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A22-7F43-498B-91FB-C6675A1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E9005-EB1B-4518-B3E2-AAE2EC7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06B18-42F6-47A6-B9C5-D0C7530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929E6-6A4A-4500-B33B-1FB942E1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504FF-82A8-46AC-90AC-2987CA61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665DA-DFD0-4A08-8B3E-5D56ABCF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F6077-35D6-4BD8-A467-6E811EB5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9126-8BD6-4624-B73E-3505A3E6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1D691-A264-4FC5-B06A-E602A39A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4306A-F174-4C01-ACC2-12508F3D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1A2F5-D58E-4701-A121-2F51F830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5C5-4A30-45E7-B39E-627DDE4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52CDA-C1D8-4B5B-B0CA-300E6CA1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E800A-5646-4D31-8E79-3C9770C7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A9F35-775F-43D6-ABCD-26FD18F0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23BC6-D5F4-4722-AD2E-72238FD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A31E5-4B65-4810-B7CC-2CBF004B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EF73F-69A4-4646-B145-717AF100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37A79-2AB8-43D0-A4F6-80BBC8DD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0225D-A606-4058-89FA-6DB80AE6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56C63-F5B2-4327-9A81-3DAF60FF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5A185-C64C-4615-AD68-E059C3E5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7273-0050-459A-99AF-7F0D9B439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5200-61C6-4899-977A-1AE89558E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79E0-FF2B-4D96-A5B2-5D2231AED1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FC64-0951-4E15-96A7-75A22BD0D3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0314-1002-46AA-9369-BE59D4BD11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0142-E8AB-4FEC-8CEF-A16F75E9D7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6C91-6308-42D3-83E5-3901EEF590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E7CD-6B46-4D7D-9229-8C206D6622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FF5D-6E2E-4610-93C4-F489EF0803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5CAB-1A88-45D1-8B35-3CB80FF705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9698-6EFF-4D96-AC09-5FB1770AD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2E6F-731F-422E-93E2-150839F5A5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0BE1-0B08-4DFE-922F-2FCA9AE481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0599-FCAF-487F-9471-777DE69D1F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4280-D80E-4DDD-AFC1-934FDDEC3B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4283-41CE-4830-9D80-13F0FFAFC2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7A4B-1C71-48F5-BF99-9DBDBF3105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1773-51C0-4791-B336-C428AFD82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0D80-6CC0-4C49-8619-C52B1A5992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E333-CF59-4A1F-9B0E-7610319E5C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30FC-F291-4404-9FE8-BC82F54253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4645-8B00-417B-B446-56453EC63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0ED6-E504-435B-A4D8-921719938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38F2-64DB-49A0-9391-85AED9D18F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96C9-2383-4F0A-8272-247AFBF1BA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6418-30E7-4D34-BF85-78BFD33EBE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58C6-F06D-4960-B1CE-89C486FF3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CD77-B1DF-4050-9784-99F161799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86E5-262A-4253-9573-F76BE22FE6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527B-1F58-4D1B-8465-8739A0565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F405-A1C6-4177-AB7D-5CAF266048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260D-4426-400C-A220-B5E1FAA431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68D5-7A2D-480A-998D-C77BA09BC1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A634-2A03-4C34-A1A3-23B036B766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F58B-3270-4437-8891-E71DCBECB4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05D1-C8D8-4854-81C8-467A0E77CF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EF01-0D09-4ED5-86AF-F8B7A5B7C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DD17-589A-43BA-B321-C54DFD205D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FEAF-66C2-41A9-A493-19CB18809C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6381-6C4D-449F-B592-84504931BA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138320" y="2976480"/>
            <a:ext cx="68673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04760" y="1771560"/>
            <a:ext cx="8934480" cy="331488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3"/>
          <a:stretch/>
        </p:blipFill>
        <p:spPr>
          <a:xfrm>
            <a:off x="712800" y="3090960"/>
            <a:ext cx="690480" cy="6490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101" descr=""/>
          <p:cNvPicPr/>
          <p:nvPr/>
        </p:nvPicPr>
        <p:blipFill>
          <a:blip r:embed="rId4"/>
          <a:stretch/>
        </p:blipFill>
        <p:spPr>
          <a:xfrm>
            <a:off x="3405240" y="3097080"/>
            <a:ext cx="690480" cy="6494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2" descr=""/>
          <p:cNvPicPr/>
          <p:nvPr/>
        </p:nvPicPr>
        <p:blipFill>
          <a:blip r:embed="rId5"/>
          <a:stretch/>
        </p:blipFill>
        <p:spPr>
          <a:xfrm>
            <a:off x="6026040" y="3097080"/>
            <a:ext cx="690840" cy="64944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3" descr=""/>
          <p:cNvPicPr/>
          <p:nvPr/>
        </p:nvPicPr>
        <p:blipFill>
          <a:blip r:embed="rId6"/>
          <a:stretch/>
        </p:blipFill>
        <p:spPr>
          <a:xfrm>
            <a:off x="741240" y="4164120"/>
            <a:ext cx="690840" cy="6490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4104" descr=""/>
          <p:cNvPicPr/>
          <p:nvPr/>
        </p:nvPicPr>
        <p:blipFill>
          <a:blip r:embed="rId7"/>
          <a:stretch/>
        </p:blipFill>
        <p:spPr>
          <a:xfrm>
            <a:off x="3405240" y="4162320"/>
            <a:ext cx="690480" cy="64944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105" descr=""/>
          <p:cNvPicPr/>
          <p:nvPr/>
        </p:nvPicPr>
        <p:blipFill>
          <a:blip r:embed="rId8"/>
          <a:stretch/>
        </p:blipFill>
        <p:spPr>
          <a:xfrm>
            <a:off x="6026040" y="4162320"/>
            <a:ext cx="6908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405080" y="1881360"/>
            <a:ext cx="6333840" cy="3095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6343560" y="2421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709308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6315120" y="2952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7164360" y="293832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6443640" y="34574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7"/>
          <a:stretch/>
        </p:blipFill>
        <p:spPr>
          <a:xfrm>
            <a:off x="7237440" y="345744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8"/>
          <a:stretch/>
        </p:blipFill>
        <p:spPr>
          <a:xfrm>
            <a:off x="6329520" y="39625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9"/>
          <a:stretch/>
        </p:blipFill>
        <p:spPr>
          <a:xfrm>
            <a:off x="6400800" y="44798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433440" y="2338560"/>
            <a:ext cx="8275680" cy="21808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476360" y="2952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476360" y="345744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1476360" y="397656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42920" y="1176480"/>
            <a:ext cx="8858160" cy="450504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7170" descr=""/>
          <p:cNvPicPr/>
          <p:nvPr/>
        </p:nvPicPr>
        <p:blipFill>
          <a:blip r:embed="rId2"/>
          <a:stretch/>
        </p:blipFill>
        <p:spPr>
          <a:xfrm>
            <a:off x="4083120" y="1728720"/>
            <a:ext cx="1195200" cy="55872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7171" descr=""/>
          <p:cNvPicPr/>
          <p:nvPr/>
        </p:nvPicPr>
        <p:blipFill>
          <a:blip r:embed="rId3"/>
          <a:stretch/>
        </p:blipFill>
        <p:spPr>
          <a:xfrm>
            <a:off x="2354400" y="3716280"/>
            <a:ext cx="11952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333360" y="1414440"/>
            <a:ext cx="8477280" cy="402912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8194" descr=""/>
          <p:cNvPicPr/>
          <p:nvPr/>
        </p:nvPicPr>
        <p:blipFill>
          <a:blip r:embed="rId2"/>
          <a:stretch/>
        </p:blipFill>
        <p:spPr>
          <a:xfrm>
            <a:off x="2973240" y="1714680"/>
            <a:ext cx="1152720" cy="55872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8195" descr=""/>
          <p:cNvPicPr/>
          <p:nvPr/>
        </p:nvPicPr>
        <p:blipFill>
          <a:blip r:embed="rId3"/>
          <a:stretch/>
        </p:blipFill>
        <p:spPr>
          <a:xfrm>
            <a:off x="3030480" y="3040200"/>
            <a:ext cx="1152720" cy="55872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8196" descr=""/>
          <p:cNvPicPr/>
          <p:nvPr/>
        </p:nvPicPr>
        <p:blipFill>
          <a:blip r:embed="rId4"/>
          <a:stretch/>
        </p:blipFill>
        <p:spPr>
          <a:xfrm>
            <a:off x="3722760" y="4349880"/>
            <a:ext cx="1152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0:20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